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73DC-12D6-48C0-AEF9-8505E739C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CE4C-CAFD-437F-8336-537C8A294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89D9-68C4-419D-98DC-2A8E1BD97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DF5F-7928-40D5-BD1B-0925AD602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Date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EB15-5144-4531-9F31-6896BC532C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F8A2-C34C-4AD1-B531-AD9D37C0C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D556-A4B8-401A-A88A-3F8B21572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C1BC-6660-4E99-89B7-BD4E63D8C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1A38-CEBC-4FDC-82D6-BF8860F7D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BCF0-E1CD-415E-B991-49451F879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F42B-450B-436F-AF02-97C9A80B7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95FC-865B-4995-9D84-41DA2F313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D967-F89D-4916-8DE2-56751EDDF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A293-9D8E-47D6-83D8-8D63E975D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B733-FD46-490E-BB9C-C0FD5CF28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7720-66BC-4356-B327-8C38C7E9D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75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2DE9-5B2D-4BE0-A36F-909604362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5AAA-64EC-4B7B-BF20-382CA3556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AFF3-5F9D-418E-B768-6DB179770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D948-7EF1-47B3-A304-89841161A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8B94-8C7C-4390-A32C-A2BB51D5B327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C:\Documents and Settings\mcm08@fuse.net\My Documents\2008 Projects\C21 Accounting\C21 Acct Covers\C21 Accounting Cover Images_Blue\Gilbertson_0538447052_amzn.jpg"/>
          <p:cNvPicPr/>
          <p:nvPr/>
        </p:nvPicPr>
        <p:blipFill>
          <a:blip r:embed="rId2"/>
          <a:stretch/>
        </p:blipFill>
        <p:spPr>
          <a:xfrm>
            <a:off x="0" y="14400"/>
            <a:ext cx="968400" cy="12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40224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440" y="6489720"/>
            <a:ext cx="59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CENTURY 21 ACCOUNTING © 2009 South-Western,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Documents and Settings\mcm08@fuse.net\My Documents\2008 Projects\C21 Accounting\C21 Acct Covers\C21 Accounting Cover Images_Blue\Gilbertson_0538447052_amzn.jpg"/>
          <p:cNvPicPr/>
          <p:nvPr/>
        </p:nvPicPr>
        <p:blipFill>
          <a:blip r:embed="rId2"/>
          <a:stretch/>
        </p:blipFill>
        <p:spPr>
          <a:xfrm>
            <a:off x="0" y="14400"/>
            <a:ext cx="968400" cy="12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46136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ON 3-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631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Journals, Source Documents, and Recording Entries in a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C649-9FFF-49AD-8E88-5C9762AD48EB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D CASH FOR 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C:\Documents and Settings\mcm08@fuse.net\My Documents\2005 Business Projects\Slides for Century 21 Accounting\Blue\ch03\C21_blue_0309.jpg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1397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mcm08@fuse.net\My Documents\2005 Business Projects\Slides for Century 21 Accounting\Blue\ch03\C21_blue_0310.jpg"/>
          <p:cNvPicPr/>
          <p:nvPr/>
        </p:nvPicPr>
        <p:blipFill>
          <a:blip r:embed="rId2"/>
          <a:stretch/>
        </p:blipFill>
        <p:spPr>
          <a:xfrm>
            <a:off x="5487840" y="3505320"/>
            <a:ext cx="3198960" cy="1508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57200" y="1371600"/>
            <a:ext cx="8229600" cy="398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gust 3. Paid cash for supplies, $275.00. Check No.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426960" y="3656520"/>
            <a:ext cx="48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 in the Dat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26960" y="4158000"/>
            <a:ext cx="521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debit amount in the General Debit column. Write the title of the account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26960" y="5271120"/>
            <a:ext cx="825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redit amount in the Cash Credit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73440" y="5774400"/>
            <a:ext cx="79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ource document number in the Doc. No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503280" y="2743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3352680" y="3094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7315200" y="27432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20"/>
          <p:cNvGrpSpPr/>
          <p:nvPr/>
        </p:nvGrpSpPr>
        <p:grpSpPr>
          <a:xfrm>
            <a:off x="2057400" y="2743200"/>
            <a:ext cx="3505320" cy="411120"/>
            <a:chOff x="2057400" y="2743200"/>
            <a:chExt cx="3505320" cy="411120"/>
          </a:xfrm>
        </p:grpSpPr>
        <p:sp>
          <p:nvSpPr>
            <p:cNvPr id="169" name="Rectangle 16"/>
            <p:cNvSpPr/>
            <p:nvPr/>
          </p:nvSpPr>
          <p:spPr>
            <a:xfrm>
              <a:off x="2057400" y="2743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7"/>
            <p:cNvSpPr/>
            <p:nvPr/>
          </p:nvSpPr>
          <p:spPr>
            <a:xfrm>
              <a:off x="5151600" y="27432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70FD-A62D-424B-9C30-A98967070B1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amount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amount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entry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in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cket out the d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DBCE-B61D-4D81-823F-F683C864B334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5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609480" y="1828800"/>
            <a:ext cx="7925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it mean to journalize transa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) Name 3 of the 5 source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) Name the 4 steps to journalizing trans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- A business activity that changes the accounting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equation – an equation showing the relationships between assets, liabilities and owner’s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- a record summarizing all the information pertaining to a single item in the acct.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ITS MUST EQUAL CR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D3E3-596A-4431-82DD-1546F8C88E6A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learned in Chapter 2 that  transactions are analyzed into debit and credit parts before information is recor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 for recording transactions in chronological order is called a jour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 transactions in a journal is called journaliz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FA5A-9C36-4180-87F5-CBAE66DE49A6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Journ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 of recording transaction in a chronological order is called journa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journal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more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easier to underst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easier to track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9D90-B8C7-4208-9341-B38362A86271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A4A6-7E83-4A3F-951E-8464CBB14F9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IVE-COLUMN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C:\Documents and Settings\mcm08@fuse.net\My Documents\2005 Business Projects\Slides for Century 21 Accounting\Blue\ch03\C21_blue_0301.jpg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147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D3C4-DD73-42BD-99F3-E5B13A499178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C:\Documents and Settings\mcm08@fuse.net\My Documents\2005 Business Projects\Slides for Century 21 Accounting\Blue\ch03\C21_blue_0302.jpg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245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9E7D-DEDF-417A-A41C-3853B3831E79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INV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C:\Documents and Settings\mcm08@fuse.net\My Documents\2005 Business Projects\Slides for Century 21 Accounting\Blue\ch03\C21_blue_0303.jpg"/>
          <p:cNvPicPr/>
          <p:nvPr/>
        </p:nvPicPr>
        <p:blipFill>
          <a:blip r:embed="rId1"/>
          <a:srcRect l="0" t="0" r="0" b="18939"/>
          <a:stretch/>
        </p:blipFill>
        <p:spPr>
          <a:xfrm>
            <a:off x="914400" y="1600200"/>
            <a:ext cx="777240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7888-7EF1-48EF-9D9A-73E5969E7EAF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OURCE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914400" y="4210200"/>
            <a:ext cx="4638960" cy="1962000"/>
            <a:chOff x="914400" y="4210200"/>
            <a:chExt cx="4638960" cy="1962000"/>
          </a:xfrm>
        </p:grpSpPr>
        <p:pic>
          <p:nvPicPr>
            <p:cNvPr id="129" name="Picture 6" descr="C:\Documents and Settings\mcm08@fuse.net\My Documents\2005 Business Projects\Slides for Century 21 Accounting\Blue\ch03\C21_blue_0305.jpg"/>
            <p:cNvPicPr/>
            <p:nvPr/>
          </p:nvPicPr>
          <p:blipFill>
            <a:blip r:embed="rId1"/>
            <a:stretch/>
          </p:blipFill>
          <p:spPr>
            <a:xfrm>
              <a:off x="914400" y="4210200"/>
              <a:ext cx="318780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9"/>
            <p:cNvSpPr/>
            <p:nvPr/>
          </p:nvSpPr>
          <p:spPr>
            <a:xfrm>
              <a:off x="3676320" y="5028120"/>
              <a:ext cx="187704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morand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14"/>
          <p:cNvGrpSpPr/>
          <p:nvPr/>
        </p:nvGrpSpPr>
        <p:grpSpPr>
          <a:xfrm>
            <a:off x="6477120" y="2294280"/>
            <a:ext cx="2209680" cy="2506320"/>
            <a:chOff x="6477120" y="2294280"/>
            <a:chExt cx="2209680" cy="2506320"/>
          </a:xfrm>
        </p:grpSpPr>
        <p:pic>
          <p:nvPicPr>
            <p:cNvPr id="132" name="Picture 7" descr="C:\Documents and Settings\mcm08@fuse.net\My Documents\2005 Business Projects\Slides for Century 21 Accounting\Blue\ch03\C21_blue_0306.jpg"/>
            <p:cNvPicPr/>
            <p:nvPr/>
          </p:nvPicPr>
          <p:blipFill>
            <a:blip r:embed="rId2"/>
            <a:stretch/>
          </p:blipFill>
          <p:spPr>
            <a:xfrm>
              <a:off x="6477120" y="2989080"/>
              <a:ext cx="220968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10"/>
            <p:cNvSpPr/>
            <p:nvPr/>
          </p:nvSpPr>
          <p:spPr>
            <a:xfrm>
              <a:off x="6616800" y="2294280"/>
              <a:ext cx="19713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lculator ta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12"/>
          <p:cNvGrpSpPr/>
          <p:nvPr/>
        </p:nvGrpSpPr>
        <p:grpSpPr>
          <a:xfrm>
            <a:off x="500760" y="1600200"/>
            <a:ext cx="4680720" cy="2041560"/>
            <a:chOff x="500760" y="1600200"/>
            <a:chExt cx="4680720" cy="2041560"/>
          </a:xfrm>
        </p:grpSpPr>
        <p:pic>
          <p:nvPicPr>
            <p:cNvPr id="135" name="Picture 5" descr="C:\Documents and Settings\mcm08@fuse.net\My Documents\2005 Business Projects\Slides for Century 21 Accounting\Blue\ch03\C21_blue_0304.jpg"/>
            <p:cNvPicPr/>
            <p:nvPr/>
          </p:nvPicPr>
          <p:blipFill>
            <a:blip r:embed="rId3"/>
            <a:stretch/>
          </p:blipFill>
          <p:spPr>
            <a:xfrm>
              <a:off x="933480" y="1600200"/>
              <a:ext cx="42480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11"/>
            <p:cNvSpPr/>
            <p:nvPr/>
          </p:nvSpPr>
          <p:spPr>
            <a:xfrm>
              <a:off x="500760" y="3047040"/>
              <a:ext cx="10126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cei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2"/>
          <p:cNvSpPr/>
          <p:nvPr/>
        </p:nvSpPr>
        <p:spPr>
          <a:xfrm>
            <a:off x="7238880" y="-1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F58D-287F-4A1E-9AF8-CF6B1A62AB2E}" type="slidenum">
              <a:rPr b="0" lang="en-US" sz="16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6400800" y="6489720"/>
            <a:ext cx="274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LESSON 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D CASH FROM OWNER AS AN INVES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772400" y="7142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page 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C:\Documents and Settings\mcm08@fuse.net\My Documents\2005 Business Projects\Slides for Century 21 Accounting\Blue\ch03\C21_blue_0307.jpg"/>
          <p:cNvPicPr/>
          <p:nvPr/>
        </p:nvPicPr>
        <p:blipFill>
          <a:blip r:embed="rId1"/>
          <a:stretch/>
        </p:blipFill>
        <p:spPr>
          <a:xfrm>
            <a:off x="457200" y="219240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Documents and Settings\mcm08@fuse.net\My Documents\2005 Business Projects\Slides for Century 21 Accounting\Blue\ch03\C21_blue_0308.jpg"/>
          <p:cNvPicPr/>
          <p:nvPr/>
        </p:nvPicPr>
        <p:blipFill>
          <a:blip r:embed="rId2"/>
          <a:stretch/>
        </p:blipFill>
        <p:spPr>
          <a:xfrm>
            <a:off x="5487840" y="3446640"/>
            <a:ext cx="3198960" cy="1506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457200" y="1371600"/>
            <a:ext cx="8229600" cy="70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gust 1. Received cash from owner as an investment, $5,000.00. Receipt No.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426960" y="3809160"/>
            <a:ext cx="45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ate in the Dat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26960" y="4361400"/>
            <a:ext cx="457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debit amount in the Cash Debit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26960" y="5067720"/>
            <a:ext cx="825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credit amount in the General Credit column. Write the title of the account in the Account Title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73440" y="5774400"/>
            <a:ext cx="79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ource document number in the Doc. No. colum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250920" y="259092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7696080" y="297180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3352680" y="3246480"/>
            <a:ext cx="411120" cy="411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1"/>
          <p:cNvGrpSpPr/>
          <p:nvPr/>
        </p:nvGrpSpPr>
        <p:grpSpPr>
          <a:xfrm>
            <a:off x="2590920" y="2971800"/>
            <a:ext cx="2544480" cy="411120"/>
            <a:chOff x="2590920" y="2971800"/>
            <a:chExt cx="2544480" cy="411120"/>
          </a:xfrm>
        </p:grpSpPr>
        <p:sp>
          <p:nvSpPr>
            <p:cNvPr id="152" name="Rectangle 18"/>
            <p:cNvSpPr/>
            <p:nvPr/>
          </p:nvSpPr>
          <p:spPr>
            <a:xfrm>
              <a:off x="2590920" y="2971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4724280" y="2971800"/>
              <a:ext cx="411120" cy="4111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23:24:45Z</dcterms:created>
  <dc:creator>M. C. McLaughlin</dc:creator>
  <dc:description/>
  <dc:language>en-US</dc:language>
  <cp:lastModifiedBy>Amanda Mason</cp:lastModifiedBy>
  <dcterms:modified xsi:type="dcterms:W3CDTF">2013-11-19T20:47:52Z</dcterms:modified>
  <cp:revision>20</cp:revision>
  <dc:subject/>
  <dc:title>Lesson 3-1</dc:title>
</cp:coreProperties>
</file>